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6F8-8CDF-4E43-90F3-2B2DCBB1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4A06-3762-4251-B25A-75E05671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2F5B-9801-4DFD-BA00-2A7B305A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3F99-6DDF-4FE3-93C9-6544B5C6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354-C01E-4EFD-9880-626D8118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3AF2-3FB4-4E36-96B1-10C72291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7299-401A-4C96-BAD7-4B2572F0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9281-8637-4DF2-A860-A288B086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1694-251F-4107-837E-0570E171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37D-1458-40BB-93F5-00A08CA3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765-27CA-4224-9EFD-0DF9B2A0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96C-5E3C-4B73-8268-B9A0B081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940A-A1D6-491A-92E5-2CE2FA17D0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79280" y="339840"/>
            <a:ext cx="885060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89" name="TextBox 1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97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5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21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0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9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10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1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4"/>
          <p:cNvSpPr/>
          <p:nvPr/>
        </p:nvSpPr>
        <p:spPr>
          <a:xfrm>
            <a:off x="142920" y="106200"/>
            <a:ext cx="2017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1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85" name="Стрелка вниз 1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89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93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97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1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5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9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13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17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21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556000" y="136440"/>
            <a:ext cx="53290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1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4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82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86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90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94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5"/>
          <p:cNvSpPr/>
          <p:nvPr/>
        </p:nvSpPr>
        <p:spPr>
          <a:xfrm>
            <a:off x="1253160" y="320760"/>
            <a:ext cx="675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МЕДИА - АЛФАВ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24160" y="1531800"/>
            <a:ext cx="6419520" cy="32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142920" y="106200"/>
            <a:ext cx="2000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6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7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15408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Савина Дарья Александровна</cp:lastModifiedBy>
  <dcterms:modified xsi:type="dcterms:W3CDTF">2023-01-24T15:29:37Z</dcterms:modified>
  <cp:revision>126</cp:revision>
  <dc:subject/>
  <dc:title>Слайд 1</dc:title>
</cp:coreProperties>
</file>